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81C8-BF68-45F8-BA40-E12AA5657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uter t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tilizing or learning an appl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s t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, modeling,circuitry, most likely not related to comp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three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design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the design cycle  I.e. just typing a one page paper will not really fit for part of the IB credit but a full research document that follows the process w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areas of inte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does that mea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o quality docu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 jour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can be part of sms classes, both  tech and core acade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ep a record of the process and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will keep n electronic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facts to be chosen and evaluated by core academic teac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folio to be electronically assembled and put on CD at dates to be specified in Dec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6790-B5A9-4B2E-AC26-18910AEEE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686F-728D-4C80-AD75-5514EA98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65C6-51FF-4AC7-95BA-F3D70F432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FE8C-E0A5-4993-B523-36476E9B8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5682-18E4-480B-A274-5A9B5BCB3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DEB8-FD33-472D-B2C1-9E774D43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909F-DD45-4C4E-A6AA-826F61E3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F113-D354-4BF3-8237-C8D001D4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7D68-CDBC-4F0F-BA8C-0DF39ED1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74AE-9F42-4644-B863-515DF7EC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8EBE-CDEE-4E10-9264-E1987606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AD86-11E2-4193-8C4D-CBF068BB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E9C4-EA27-499C-A32D-202F0B53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3682-A7F2-49BD-AC1F-DFEA0094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D885-9813-4875-BB08-35D947D9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0684-280F-46AA-B35E-F769A430D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BB22-7AE2-4E7C-9BB9-7D3E77FE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90E9-CA69-4872-8331-EFB1B912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30BC-7D63-42E6-BE7D-A92A12E6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D405-F070-4A5D-B15A-8FF97C34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FD69-937C-429F-90BE-34408C19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D716-C05F-4D5C-86B6-C7449BAA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DC7B-129C-4F27-9F68-6A3519ED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8458-3C5E-4020-97FB-A99A3598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0099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0099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0099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3070-3809-4239-AC8D-6F20806ACED6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0099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0099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0099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C593-CAFB-48B8-836E-9D6EC239D991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8f8f8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8f8f8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m-w.com/cgi-bin/dictionary?book=Dictionary&amp;va=engineering+" TargetMode="External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66"/>
                </a:solidFill>
                <a:latin typeface="Times New Roman"/>
              </a:rPr>
              <a:t>MYP IB TECHNOLOGY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Parents and Students Need To Know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50 hours of technology work is 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required for MYP IB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22960" y="5486400"/>
            <a:ext cx="854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Worth Checking Out The MYP IB web sit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MS Sans Serif"/>
              </a:rPr>
              <a:t>http://www.ibo.org/ibo2/en/programmes/prg_myp_cv.cfm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What Is Technology?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1 a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the practical application of knowledge especially in a particular area 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: </a:t>
            </a:r>
            <a:r>
              <a:rPr b="0" lang="en-US" sz="2400" spc="-1" strike="noStrike" u="sng">
                <a:solidFill>
                  <a:srgbClr val="009966"/>
                </a:solidFill>
                <a:uFillTx/>
                <a:latin typeface="Times New Roman"/>
                <a:hlinkClick r:id="rId2"/>
              </a:rPr>
              <a:t>ENGINEERING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2 &lt;medical </a:t>
            </a:r>
            <a:r>
              <a:rPr b="0" i="1" lang="en-US" sz="2400" spc="-1" strike="noStrike">
                <a:solidFill>
                  <a:srgbClr val="f8f8f8"/>
                </a:solidFill>
                <a:latin typeface="Times New Roman"/>
              </a:rPr>
              <a:t>technology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&gt; 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a capability given by the practical application of knowledge &lt;a car's fuel-saving </a:t>
            </a:r>
            <a:r>
              <a:rPr b="0" i="1" lang="en-US" sz="2400" spc="-1" strike="noStrike">
                <a:solidFill>
                  <a:srgbClr val="f8f8f8"/>
                </a:solidFill>
                <a:latin typeface="Times New Roman"/>
              </a:rPr>
              <a:t>technology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Merriam-WebsterOnline http://www.m-w.com/cgi-bin/dictionar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Computer technology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MYP IB uses these 2 categorie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Design technology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MYP IB Technology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Information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Materials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System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Design Cycl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Investigation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Planning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Creation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Evaluation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27" name="aoi" descr=""/>
          <p:cNvPicPr/>
          <p:nvPr/>
        </p:nvPicPr>
        <p:blipFill>
          <a:blip r:embed="rId2"/>
          <a:stretch/>
        </p:blipFill>
        <p:spPr>
          <a:xfrm>
            <a:off x="1219320" y="3733920"/>
            <a:ext cx="35668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What does your student really have to do?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50 hours of documented technology work!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Where? How? When?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Process journa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Products and evaluation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817640" y="1857240"/>
            <a:ext cx="5508720" cy="3063960"/>
            <a:chOff x="1817640" y="1857240"/>
            <a:chExt cx="5508720" cy="3063960"/>
          </a:xfrm>
        </p:grpSpPr>
        <p:sp>
          <p:nvSpPr>
            <p:cNvPr id="131" name=""/>
            <p:cNvSpPr/>
            <p:nvPr/>
          </p:nvSpPr>
          <p:spPr>
            <a:xfrm>
              <a:off x="1817640" y="1857240"/>
              <a:ext cx="5508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17640" y="1857240"/>
              <a:ext cx="5508720" cy="30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95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he Tech 15 Hour Guarantee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Electronic Portfolio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At least 15 hours of work to assemble and produce Electronic Portfolio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What If?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My student does not take any tech classes at SMS?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I’m not sure what fits for MYP IB technology credit?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Are there any after school technology activities available?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How can I get help?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Questions???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15:07:58Z</dcterms:created>
  <dc:creator>Summit School District RE-1</dc:creator>
  <dc:description/>
  <dc:language>en-US</dc:language>
  <cp:lastModifiedBy>Summit School District RE-1</cp:lastModifiedBy>
  <dcterms:modified xsi:type="dcterms:W3CDTF">2001-10-22T15:39:39Z</dcterms:modified>
  <cp:revision>11</cp:revision>
  <dc:subject/>
  <dc:title>MYP IB TECHNOLOGY</dc:title>
</cp:coreProperties>
</file>